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454-53ED-4219-B591-8EAD1D17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706-F903-49E4-B061-3625CCF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CCF-A2E8-4409-B3DE-BA3A6EA6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48B-B3CA-4A25-828E-08D16F8C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1D9-1154-4C64-9DBC-3B7D7EA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285-661B-433F-9522-3328B6F2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6D7-CACC-4523-9BF7-62684EF2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EB8-AD4A-43A8-B137-636FA2E9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FA9-21CD-499F-B9B1-332A699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8BB-FF33-4385-83C5-C3954C2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8B9-49EC-4CA3-9C29-C23A108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B25-F97B-4DCC-BEF4-E727372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FA7-343B-402C-9522-DCF59D4E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7848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TRANSMIS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BAS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SINGAP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9360" y="695160"/>
            <a:ext cx="91627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5760" y="1028880"/>
            <a:ext cx="877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7560" y="1195560"/>
            <a:ext cx="80488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608360" cy="283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8696520" cy="314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00720" y="4437000"/>
            <a:ext cx="410364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 =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√ (L .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 if L = 100uH and C = 0.01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Z0 = 100 Ohms and Td = 1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9520" y="647640"/>
            <a:ext cx="8724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7040" y="3429000"/>
            <a:ext cx="8886960" cy="310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667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360" y="1266840"/>
            <a:ext cx="91252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390600"/>
            <a:ext cx="60962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8:19:52Z</dcterms:created>
  <dc:creator>mb</dc:creator>
  <dc:description/>
  <dc:language>en-US</dc:language>
  <cp:lastModifiedBy>mb</cp:lastModifiedBy>
  <dcterms:modified xsi:type="dcterms:W3CDTF">2013-06-14T10:03:09Z</dcterms:modified>
  <cp:revision>12</cp:revision>
  <dc:subject/>
  <dc:title>Slide 1</dc:title>
</cp:coreProperties>
</file>